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BB10-F36F-47D9-B1C3-32120B2A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9B9A-1133-421E-B23A-85CA41C4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9BC3-EA72-494A-9483-09A27DFD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5DA-9466-4722-B722-EF8FEBDC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2BD7-72AF-403B-8D6F-0916A14C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7F76-6D22-46F3-A218-7AE955CF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6D7-95B1-47F9-8099-1A4BC660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C37-BB9C-437B-8F2D-1770EC95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2418-6B07-49FD-8CDD-7CA5DF7A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72BC-C666-4225-A7ED-8CFD7420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5072-E15E-4C80-B08C-5729F9DC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396-49D2-4DA0-A948-A171BCE1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453A-E222-4868-BD38-BEC2D35BD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Subway"/>
              </a:rPr>
              <a:t>The Judicial Branch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in your bo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97, lawyers filed a class-action lawsuit against General Mills, the makers of Cheerios ce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laimed an additive was harm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settled out of court and the lawyers got about $2 million in legal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mbers of the class each got a coupon for a free box of ce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hear the train a comin’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woman in New York City attempted to commit suicide by laying on the tracks of the sub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was hit by a train and injured, but not k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sued the city for her injuries and won damages of $9.9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erfect cr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 Francisco cab driver Charles Hollom witnessed a woman being robbed at gunpoint while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rove over to the robbery, chased and pinned the mugger to a wall with his ta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iminal, Ocie McClure, sued the cab driver and won $24,595 for his inju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long do you have to wait agai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3434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85, a group of seven people broke into a closed public pool in Bronx, NY at 1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m, 32 year-old Ana Garcia, drow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tests showed she had a 0.23 blood alcohol level (more than twice the legal lim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family sued the city and won $2 million in da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on appeal the award was thrown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kout Anyo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delin Arias went to a cookout at her friend’s (Aledia Verasco) home in Miami, Flor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y were out of lighter fluid, they decided to siphon some gas out of a car and use it to start the charc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asco then lit a piece of paper and handed it to Arias to put on the charcoal in order to start the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the flame caught Arias on fire and she suffered burns that caused her to spend 2 weeks in the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s at the hospital showed she had cocaine in her system that n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gdelin Arias sued Verasco for causing her inju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you think it turned o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 won to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delin Arias won $500,000 in damages in her laws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ve it or not, she and Aleida Verasco are still 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asco’s homeowners insurance is covering the damages, meaning that the cost will be passed on to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’t be confu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37124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ctually two different cour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deral Cour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al with cases involving federal laws and certain other circum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Cour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al with cases involving state and city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serious cases don’t necessarily go to federal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courts hear most cas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 Co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deral Court only has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jurisdic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n certain types of ca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Jurisdic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eans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e authority to hear a ca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y are not necessarily the most serious cases, like murd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y can be criminal or civil cas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is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two basic types of juris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iginal Jurisdi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authority to hear a case for the firs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ellate Jurisdi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ower to reconsider a case after it has been decided by a lower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more than one court holds the power to hold a trial first, this is call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urrent jurisdi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s of Federal Co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three levels of federal cou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istrict Cou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has original jurisdiction in almost all federal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urt of Appea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an only hear cases after the District court has heard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upreme Cou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has the final say on all federal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dicial Bra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in role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dicial Bran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pret the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de up of the cou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reme Cou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st court in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cides if the law has been br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cides if the law is Constitu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kes sure that people’s rights have been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 Jud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Federal court has from 6-27 ju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deral judges are appointed by the President and approved by the Se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ve thei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bs for lif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until they retire; they c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be forced out b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mpeachment by House 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court has original jurisdiction in any case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lves a Constitutional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ase concerns whether someone’s rights have been violated or denied, the case can go to federal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randa v. Ariz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4267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nesto Miranda was arrested in 1963 and identified by the crime victim in a line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 was questioned by the police and confessed to the cri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 was found guilty and sent to prison for twenty to thirty yea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is lawyers appealed, saying that he was denied his Fifth Amendment rights because the police did not tell him that he did have to answer their questions when he confes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case was appealed all the way to the Supreme Court.  How do you think it turned out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randa”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urt ruled that police are required to inform suspects of their rights against self-incr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result police now must read the “Miranda Warning” to anyone who is questioned or arr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you know the Miranda W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deon v Wainwright (196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June 3, 1961, a burglary occurred at the Bay Harbor Pool Room in Panama City, FL. Someone broke a window, smashed the cigarette machine and jukebox, and stole money from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laimed they had seen Clarence Earl Gideon at the pool room at 5:30 that mo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found Gideon with change in his pockets and he was arrested for the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deon v Wainw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deon, was a semi-literate drifter, and could not afford a law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asked the court to provide one for h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judge refused, saying the state only had to do this in death penalty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d a poor job defending himself and was found guilty and sent to prison for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in prison he studied in the prison library and decided to appeal his case, saying his Sixth Amendment rights had been vio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the government have to provide a free lawyer for everyon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have the right to an attorne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urt ruled in favor of Gide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ght to an attorney is essential to having a fair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result, anyone accused of a crime who cannot afford their own lawyer may have one paid for by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4496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who is charged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king a federal la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tried in a federal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federal crimes include tax evasion, bank robbery, kidnapping, mail tampering, counterfeiting and terro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rder is usually a state c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itime La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7960" y="144792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case that involves the maritime law has federal jurisdi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imes that occur at s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vil lawsuits that involve the ocean or incidents that occur at sea are federal to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examp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overy of sunken treas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r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basic types of laws and cases that courts deal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iminal La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tes what people can and cannot do, protecting the safety of the pub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ivil La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tles disagreements betwee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s involving the U.S. Gover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court has jurisdiction in all cases 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vernment is suing a person, organization or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son, organization or company is suing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vs.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has a disagreemen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, their case is heard by a federal 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lso true for cases involving people who live in differen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es involving foreign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our government has a disagreement with another nation’s government, it can be heard in federal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if American government employees commit crimes in foreign countries, they can be put on trial in U.S. federal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minal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447560"/>
            <a:ext cx="4495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se cases, courts decide whether someone has violated the la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two types of crim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Felo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st serious crimes, often punished with prison ti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de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isdemean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ss serious crimes, usually punished with fi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community service or prob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civil case, the court settles an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be a matter of unpaid de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involve being compensated for damage caused by someone el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an involve individuals, organizations or even th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urt usually orders one side to pay the othe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m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compensation for the fault of the wrong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jail time given out in civi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ve Ca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0" y="114300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the 1970s a housing development and elementary school near Niagara Falls, NY were built, called “Love Canal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nknown to the buyers of the homes, it was built on top of a toxic waste dum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s a result many of the residents got sick and children had birth defects some contracted canc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n the dump was discovered as the cause, the owners were not only angry, but their homes were now worthl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fter a long civil lawsuit, the Chemical company that did the dumping had to pay $129 million to the resid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in Brockovich c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in Brockovich, a file clerk discovered that Pacific Gas &amp; Electric (PG&amp;E) had been dumping cancer-causing chemicals into the water supply in her hometown of Hinkley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hemicals had been causing a lot of illness and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was able to organize a lawsuit, and the people won $333 million in da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vie was made about this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 all lawsuits are legitimate howe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4960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92, Stella Liebeck, 81, spilled hot McDonalds coffee onto her lap in the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ffee soaked into the sweatpants she was wearing and caused second and third degree b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sued McDonalds, saying the coffee was too 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won damages of $2.7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later reduced on appeal to $48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a dinosaur sue a chick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ports mascot, “The San Diego Chicken” had, as part of his act, a fight against Barney the Purple Dinosa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eators of Barney were offended and sued in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udge threw out the lawsuit, saying it was clearly parody and not trademark infri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19:08:50Z</dcterms:created>
  <dc:creator>Phillip McGinnis</dc:creator>
  <dc:description/>
  <dc:language>en-US</dc:language>
  <cp:lastModifiedBy>VBCPS</cp:lastModifiedBy>
  <dcterms:modified xsi:type="dcterms:W3CDTF">2006-03-06T15:20:04Z</dcterms:modified>
  <cp:revision>41</cp:revision>
  <dc:subject/>
  <dc:title>Slide 1</dc:title>
</cp:coreProperties>
</file>